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3F3-B741-4BE7-B31B-5EE2C60F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15B-FA10-4B16-B56E-E3E5F812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024-2207-4421-97F1-8AACEBAC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EDE-43AC-4B43-B135-F12E4514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304-E425-4ABA-B1F4-C774E05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4C6-86AC-4804-A1D4-6DF6B3E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5B8-67ED-4BD8-8A6A-59DB69B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964-68B8-44C5-92AA-77C97857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448-AF66-4A80-8F1C-6FAC4FE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369-0217-4569-AED7-31827BA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94B-7380-40E9-8827-0244275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7A4-4563-4218-B018-6495C8A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7C05-61E7-4A2D-BFA5-4D9F93E0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107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2346480"/>
            <a:ext cx="78483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predna obuka o visokotehnološkom kriminalu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 sudije i tuži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ija 1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tvaranje ku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1295280"/>
            <a:ext cx="6629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lj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 kursa je da se sudijama i tužiocima prenesu znanje i veštine koji će im omogućiti da ispunjavaju svoje uloge u istragama koje se odnose na visokotehnološki krim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s je koncipiran tako da predstavlja nadogradnju osnovnom poznavanju visokotehnološkog kriminala stečenom tokom uvodnog kursa, pa treba da ga pohađaju samo oni koji su prethodno uspešno završili taj ku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1066680"/>
            <a:ext cx="64771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završetku ovog kursa, polaznici će biti u stanju da razmotre pitanja koja su od značaja za istrage dela iz oblasti visokotehnološkog kriminala, uključujući sledeć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đenje ist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kacija vrste krivičnih dela koja su učinje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vrđivanje lokacije dokaza, svedoka i osumnjičeni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štita dokaza na prihvatljiv način, bez obzira na to gde se nalaz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prema aktivnosti u oblasti pretresa i zaplene, uključujući elektronske dokaz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upanje sa digitalnim uređajima koji su deo ist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fing forenzičkih stručnjaka i ostalih koji treba da pruže podršku u fazi ist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prema za saslušanja osumnjičeni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zentacija dokaza iz oblasti visokotehnološkog krimina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zmatranje relevantnih aspekata u sudskom postup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aci k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990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ija i raspored 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295280"/>
            <a:ext cx="6933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i praktične ve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snovano na scena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peno dodavanje doku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ni rad na konkretnim tem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pne povratne in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ška grupama od nacionalnih instru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ška od instruktora na grupnim sesij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9320" y="914400"/>
            <a:ext cx="72388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spored rada - prvi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-10.00 – Predstavljanje kursa, instruktora i scen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-11.00 – Prezentacija - Razvoj is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00-11.30 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30-13.00 – Grupni rad na identifikaciji krivičnih dela, razradi plana istrage i scena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00-14.00 –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00-14.30 – Prezentacija - međunarodna sarad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0-15.30 – Grupni rad na međunarodnoj sara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0-16.00 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760" indent="-1652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00-17.00 – Grupni rad na identifikaci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činioca i planiranju strategije hapš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60948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spored rada - drugi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-09.15 – Rekapitulacija prvog dana - Informacije o hapšenju (hapšenj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15-10.45 – Prezentacija - Digitalna foren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45-11.15 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15-13.00 - Grupni rad na digitalnim dokazima, potrebama u pogledu dokaza, osumnjičenima, nadležnosti i međunarodnim pit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00-14.00 –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00-14.30 – Prezentacija - Priprema predmeta za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0-15.30 – Grupni rad: privođenje kraju rada na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0-16.00 – Pau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6960" indent="-159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00-17.00 – Preispitivanje predmeta, intervencije radnog tima i polaznika, ocena, povratne informacije i zatvaranje 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56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STAVLJ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ijanje l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5226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523880"/>
            <a:ext cx="82296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aberite partnera, nekoga koga ranije niste poznav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roku od 10 minuta saznajte osnovne podatke o partneru i kažite n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ko zove i iz koje je zem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e r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ime se tačno b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 li iskustva u ulozi instru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a je posebno zanimljivo u vezi s nj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ko glase njegovi odgovori na „pitanja o znanj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stavlj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549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orisnik kompjut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nanje o visokotehnološkom krimin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= Potpuni počet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= Potpuni počet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= Ume da uključi 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= Video je forenzički soft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= Slepo ku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= Zaposlen u forenzičkoj jedi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= Video je unutrašnjost račun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= Koristio forenzički soft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= Unapredio je raču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= Vodio istragu o visokotehnološkom krimin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= Spremno koristi softverske pak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= Dao izjavu u vezi s visokotehnološkim kriminal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= Sam je sastavio raču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= Svedočio na sudu o kompjuterskim dokazima/visokotehnološkom krimina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= Sastavio je i koristio makro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= Napisao program ili šifru kao pomoć ispitivan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= Povezao je dva računara u mrež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= Napisao vlastiti softverski paket za forenzičke potre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1880" indent="-461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= Sistem administrator, programer i dizajner Microsoft proizv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1880" indent="-461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= Programirao forenzički softver namenjen prodaji, ima diplomu koja se odnosi na visokotehnološki kriminal i genije je za tu obl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lj ses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iti polaznicima informacije o potrebi za održavanjem kursa, njegovom cilju i zada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da svi imaju dovoljno informacija o programu i rasporedu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iti informacije o zdravstvenim, bezbednosnim i administrativnim aspektima ku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znati polaznike sa instruktorima i drugim polazni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371600"/>
            <a:ext cx="73915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kraju ove sesije učesnici će biti u stanju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e informacije o potrebi za održavanjem kursa, njegovom cilju i zada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zbediti da svi imaju dovoljno informacija o programu aktivnosti i rasporedu 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že informacije o zdravstvenim, bezbednosnim i administrativnim aspektima ku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znaju polaznike sa instruktorima i drugim polaznic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0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ime zadataka koje treba ostvariti na ses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76212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71960" y="2133720"/>
            <a:ext cx="2847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dravstveni i bezbednosni aspek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laz za slučaj opa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ivpožarni 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al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š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ni telefoni i pejdž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ze za kafu i za ruč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j kurs nosi naziv „Napredni kurs o visokotehnološkom kriminalu i elektronskim dokazima za sudije i tužioce“. Nastao je kao plod Zajedničkog projekta Evropske unije i Saveta Evrope u oblasti visokotehnološkog kriminala u IPA regio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12200" y="91440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nov i istorijat ku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748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ije i tužioci imaju važnu ulogu u istrazi i suđenju u slučajevima krivičnih dela čiji su počinioci pojedinci ili grup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ko se povećava učestalost krivičnih dela s nekim elementom visokotehnološkog kriminala, tako se uvećava i potreba da sudije i tužioci budu valjano obučeni da bi mogli da shvate prirodu tih krivičnih dela i da bi bili upoznati sa zakonodavstvom i instrumentima međunarodne saradnje koji im stoje na raspolaganju za rešavanje predmeta iz oblasti visokotehnološkog krimin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035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što je potreban ovaj k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kto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j k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de pobrojati imena instru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21680" y="2361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ljevi i zada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4:40:37Z</dcterms:created>
  <dc:creator>Master</dc:creator>
  <dc:description/>
  <dc:language>en-US</dc:language>
  <cp:lastModifiedBy>Master</cp:lastModifiedBy>
  <dcterms:modified xsi:type="dcterms:W3CDTF">2013-09-12T07:30:49Z</dcterms:modified>
  <cp:revision>5</cp:revision>
  <dc:subject/>
  <dc:title>Slide 1</dc:title>
</cp:coreProperties>
</file>